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D83F-C150-4907-9C56-BA961BAEE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5EBF-9A48-4483-B63F-15518353D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5FC0-EABC-43BA-9DC8-8B9557850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AEAD-63C5-441D-A5E4-57E098F52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A5AC-4F48-496F-9443-94FFD51B4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1F19-A167-4DF3-9A8E-33EC3B34C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3A6C-3897-4D9E-B720-A8D85D4EF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A7F1-0513-4FEA-91B9-432F551E9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F11B-863B-43D5-9A07-AF310B7D9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B5F6-F380-4839-84C3-55F2C340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CA43-7BB3-4DE5-8423-84489DD5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8978-F14B-479A-B7DF-FCB5FDED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8C57B-8D16-4606-B37F-AFBD27A2B6D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utrašnji mišići larynx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Calibri"/>
              </a:rPr>
              <a:t>Abdukci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</a:t>
            </a:r>
            <a:r>
              <a:rPr b="0" lang="sr-Latn-RS" sz="2800" spc="-1" strike="noStrike">
                <a:solidFill>
                  <a:srgbClr val="ffffff"/>
                </a:solidFill>
                <a:latin typeface="Calibri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sr-Latn-RS" sz="2800" spc="-1" strike="noStrike">
                <a:solidFill>
                  <a:srgbClr val="ffffff"/>
                </a:solidFill>
                <a:latin typeface="Calibri"/>
              </a:rPr>
              <a:t>ricoarytenoideus posterio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Calibri"/>
              </a:rPr>
              <a:t>Adukci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</a:t>
            </a:r>
            <a:r>
              <a:rPr b="0" lang="sr-Latn-RS" sz="2800" spc="-1" strike="noStrike">
                <a:solidFill>
                  <a:srgbClr val="ffffff"/>
                </a:solidFill>
                <a:latin typeface="Calibri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sr-Latn-RS" sz="2800" spc="-1" strike="noStrike">
                <a:solidFill>
                  <a:srgbClr val="ffffff"/>
                </a:solidFill>
                <a:latin typeface="Calibri"/>
              </a:rPr>
              <a:t>ricoarytenoideus laterali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</a:t>
            </a:r>
            <a:r>
              <a:rPr b="0" lang="sr-Latn-RS" sz="2800" spc="-1" strike="noStrike">
                <a:solidFill>
                  <a:srgbClr val="ffffff"/>
                </a:solidFill>
                <a:latin typeface="Calibri"/>
              </a:rPr>
              <a:t>. Interarytenoideu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Calibri"/>
              </a:rPr>
              <a:t>Tenzi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</a:t>
            </a:r>
            <a:r>
              <a:rPr b="0" lang="sr-Latn-RS" sz="2800" spc="-1" strike="noStrike">
                <a:solidFill>
                  <a:srgbClr val="ffffff"/>
                </a:solidFill>
                <a:latin typeface="Calibri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sr-Latn-RS" sz="2800" spc="-1" strike="noStrike">
                <a:solidFill>
                  <a:srgbClr val="ffffff"/>
                </a:solidFill>
                <a:latin typeface="Calibri"/>
              </a:rPr>
              <a:t>hyroarytenoideu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</a:t>
            </a:r>
            <a:r>
              <a:rPr b="0" lang="sr-Latn-RS" sz="2800" spc="-1" strike="noStrike">
                <a:solidFill>
                  <a:srgbClr val="ffffff"/>
                </a:solidFill>
                <a:latin typeface="Calibri"/>
              </a:rPr>
              <a:t>. cricothyroideu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0T10:13:29Z</dcterms:created>
  <dc:creator>Bora</dc:creator>
  <dc:description/>
  <dc:language>en-US</dc:language>
  <cp:lastModifiedBy>Bora</cp:lastModifiedBy>
  <dcterms:modified xsi:type="dcterms:W3CDTF">2010-11-20T10:24:01Z</dcterms:modified>
  <cp:revision>2</cp:revision>
  <dc:subject/>
  <dc:title>Unutrašnji mišići larynxa</dc:title>
</cp:coreProperties>
</file>